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7ADE-A2E7-4885-90A5-B377C666C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8F7C-5747-4D26-A079-3BAE6980A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7E97-A923-4CC0-B4FD-F43DD58B5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4E07-5528-40EE-AFC0-0E5700627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D0A1-42A0-4465-B599-8D3CCA405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2301-BAD4-4F07-AA56-1B2FC34C0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CDAC-38E0-4EB4-B162-B2A5768C2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7E80-F52D-4185-9BA6-3AE3382FB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5C45-3647-49DB-8F3E-178E92C63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7896-49BE-4B62-8908-AE5F7FCE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709A-47B5-4B0C-979A-FE01A344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79D7-484D-4CC0-B622-2B63A6F6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A983D-471E-4A3E-86D3-93EAD6CC6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43000" y="380880"/>
            <a:ext cx="662940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99ff66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as Comidas Que Me Gustan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99ff66"/>
                  </a:gs>
                </a:gsLst>
                <a:lin ang="135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990720" y="5105520"/>
            <a:ext cx="739116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By: Joy Maswosw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2362320" cy="1649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429000" y="3652920"/>
            <a:ext cx="2057400" cy="13539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743880" y="1447920"/>
            <a:ext cx="2400120" cy="190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2133720" y="0"/>
            <a:ext cx="5181480" cy="114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cc99ff"/>
                </a:solidFill>
                <a:latin typeface="Times New Roman"/>
              </a:rPr>
              <a:t>El Desayuno</a:t>
            </a:r>
            <a:endParaRPr b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cc99ff"/>
              </a:solidFill>
              <a:latin typeface="Times New Roman"/>
              <a:ea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2362320" cy="1571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057400" y="380988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191120" y="1752480"/>
            <a:ext cx="2057400" cy="1543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6477120" y="3657600"/>
            <a:ext cx="2300040" cy="1531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3200400"/>
            <a:ext cx="19810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ffff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l Panquesques</a:t>
            </a:r>
            <a:endParaRPr b="0" lang="en-US" sz="1800" spc="1" strike="noStrike">
              <a:ln w="12600">
                <a:solidFill>
                  <a:srgbClr val="00ffff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343400" y="3276720"/>
            <a:ext cx="22860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ffff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l Cereal</a:t>
            </a:r>
            <a:endParaRPr b="0" lang="en-US" sz="1800" spc="1" strike="noStrike">
              <a:ln w="12600">
                <a:solidFill>
                  <a:srgbClr val="66ffff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447920" y="594360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ffff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l Zumo De Narajan</a:t>
            </a:r>
            <a:endParaRPr b="0" lang="en-US" sz="1800" spc="1" strike="noStrike">
              <a:ln w="12600">
                <a:solidFill>
                  <a:srgbClr val="00ffff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781680" y="5334120"/>
            <a:ext cx="205740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ffff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l Tocino</a:t>
            </a:r>
            <a:endParaRPr b="0" lang="en-US" sz="1800" spc="1" strike="noStrike">
              <a:ln w="12600">
                <a:solidFill>
                  <a:srgbClr val="00ffff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newsflash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4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4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50000">
              <a:srgbClr val="ff0000"/>
            </a:gs>
            <a:gs pos="100000">
              <a:srgbClr val="cc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438280" y="533520"/>
            <a:ext cx="4496040" cy="876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El Almuerzo</a:t>
            </a:r>
            <a:endParaRPr b="0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2209680" cy="1657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76720" y="3886200"/>
            <a:ext cx="1139760" cy="13525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800600" y="1828800"/>
            <a:ext cx="2057400" cy="14065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6858000" y="4038480"/>
            <a:ext cx="1981080" cy="18018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457200" y="3886200"/>
            <a:ext cx="1828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00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El Samusa</a:t>
            </a:r>
            <a:endParaRPr b="0" lang="en-US" sz="1800" spc="1" strike="noStrike">
              <a:ln w="9360">
                <a:solidFill>
                  <a:srgbClr val="00ffff"/>
                </a:solidFill>
                <a:miter/>
              </a:ln>
              <a:solidFill>
                <a:srgbClr val="00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971800" y="5105520"/>
            <a:ext cx="16765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EL Púrpura fanta</a:t>
            </a:r>
            <a:endParaRPr b="1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029200" y="3505320"/>
            <a:ext cx="1305000" cy="70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El Sub</a:t>
            </a:r>
            <a:endParaRPr b="1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477120" y="5867280"/>
            <a:ext cx="246672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El Espagueti</a:t>
            </a:r>
            <a:endParaRPr b="1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wheel spokes="8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9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cc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971800" y="457200"/>
            <a:ext cx="3324240" cy="1257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99ff66"/>
                </a:solidFill>
                <a:latin typeface="Arial Black"/>
              </a:rPr>
              <a:t>La Cena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99ff66"/>
              </a:solidFill>
              <a:latin typeface="Arial Black"/>
              <a:ea typeface="Arial Black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1754280"/>
            <a:ext cx="2743200" cy="18414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380880" y="3581280"/>
            <a:ext cx="20574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ffff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El Arroz y Pollo</a:t>
            </a:r>
            <a:endParaRPr b="0" lang="en-US" sz="1800" spc="1" strike="noStrike">
              <a:ln w="9360">
                <a:solidFill>
                  <a:srgbClr val="66ffff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895480" y="4267080"/>
            <a:ext cx="1295640" cy="12956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2514600" y="5257800"/>
            <a:ext cx="220968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ffff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El Cream de Refresco</a:t>
            </a:r>
            <a:endParaRPr b="0" lang="en-US" sz="1800" spc="1" strike="noStrike">
              <a:ln w="9360">
                <a:solidFill>
                  <a:srgbClr val="66ffff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962520" y="2133720"/>
            <a:ext cx="2438280" cy="16588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4495680" y="3505320"/>
            <a:ext cx="13716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El Taco</a:t>
            </a:r>
            <a:endParaRPr b="0" lang="en-US" sz="1800" spc="1" strike="noStrike">
              <a:ln w="9360">
                <a:solidFill>
                  <a:srgbClr val="00ffff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7010280" y="3886200"/>
            <a:ext cx="17528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7315200" y="5181480"/>
            <a:ext cx="1447920" cy="146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ffff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El Pizza</a:t>
            </a:r>
            <a:endParaRPr b="0" lang="en-US" sz="1800" spc="1" strike="noStrike">
              <a:ln w="9360">
                <a:solidFill>
                  <a:srgbClr val="66ffff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</p:spTree>
  </p:cSld>
  <p:transition spd="med">
    <p:strips dir="lu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4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4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3048120" y="0"/>
            <a:ext cx="33526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El Postrea</a:t>
            </a:r>
            <a:endParaRPr b="1" lang="en-US" sz="1800" spc="1" strike="noStrike">
              <a:ln w="9360">
                <a:solidFill>
                  <a:srgbClr val="00ffff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2438640" cy="18097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228600" y="3429000"/>
            <a:ext cx="270972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ffff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El Masa Para Galletas De Helados</a:t>
            </a:r>
            <a:endParaRPr b="0" lang="en-US" sz="1800" spc="1" strike="noStrike">
              <a:ln w="12600">
                <a:solidFill>
                  <a:srgbClr val="00ffff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943600" y="1600200"/>
            <a:ext cx="2438280" cy="16272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3200400" y="3505320"/>
            <a:ext cx="1465200" cy="19526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-2819520" y="472356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irley Te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905120" y="5410080"/>
            <a:ext cx="388620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ffff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El Shirley Temple </a:t>
            </a:r>
            <a:endParaRPr b="0" lang="en-US" sz="1800" spc="1" strike="noStrike">
              <a:ln w="12600">
                <a:solidFill>
                  <a:srgbClr val="00ffff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6934320" y="41148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6400800" y="5562720"/>
            <a:ext cx="24382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ffff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las magdalenas</a:t>
            </a:r>
            <a:endParaRPr b="0" lang="en-US" sz="1800" spc="1" strike="noStrike">
              <a:ln w="12600">
                <a:solidFill>
                  <a:srgbClr val="00ffff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562720" y="2971800"/>
            <a:ext cx="3438360" cy="85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ffff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Las Galletas De Azúcar</a:t>
            </a:r>
            <a:endParaRPr b="0" lang="en-US" sz="1800" spc="1" strike="noStrike">
              <a:ln w="12600">
                <a:solidFill>
                  <a:srgbClr val="00ffff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wheel spokes="1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5:13:35Z</dcterms:created>
  <dc:creator>maswoswejoy</dc:creator>
  <dc:description/>
  <dc:language>en-US</dc:language>
  <cp:lastModifiedBy>maswoswejoy</cp:lastModifiedBy>
  <dcterms:modified xsi:type="dcterms:W3CDTF">2012-04-05T14:12:59Z</dcterms:modified>
  <cp:revision>8</cp:revision>
  <dc:subject/>
  <dc:title>Slide 1</dc:title>
</cp:coreProperties>
</file>